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072-A83E-4D1E-96E7-F6D06220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130-3B54-4C68-9791-0199AAA4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386-AFE6-4EDB-9799-D6E115B7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AC9-5769-46DD-B792-0ED4213F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067-4105-4AC3-BE78-CCA45AB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2C6-2273-41DB-8376-101090EB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FA3-ABEA-4460-BBFB-3BAC75C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6D0-7A51-4D9B-8629-52E9A698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4BE-A31B-4A4D-A467-D45420EE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EF3-1232-42A3-9DA6-0A3ADE4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72B-8275-4C27-B114-B20C34F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46D-76DB-4E41-AB42-F0783AE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4EA-45E6-4938-A69F-7A81AFF45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ак Иван царевич, ключ к знаниям земли искал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maxresdefault"/>
          <p:cNvPicPr/>
          <p:nvPr/>
        </p:nvPicPr>
        <p:blipFill>
          <a:blip r:embed="rId1"/>
          <a:stretch/>
        </p:blipFill>
        <p:spPr>
          <a:xfrm>
            <a:off x="1547640" y="2637000"/>
            <a:ext cx="61930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Изобаты, шкала глубин и  высот, горы, равнины, карты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kalendari-risovannye--vektornaya-grafika-1301932"/>
          <p:cNvPicPr/>
          <p:nvPr/>
        </p:nvPicPr>
        <p:blipFill>
          <a:blip r:embed="rId1"/>
          <a:stretch/>
        </p:blipFill>
        <p:spPr>
          <a:xfrm>
            <a:off x="1476360" y="226836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Изображение на физических картах высот и глубин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слойная окра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slide-15"/>
          <p:cNvPicPr/>
          <p:nvPr/>
        </p:nvPicPr>
        <p:blipFill>
          <a:blip r:embed="rId1"/>
          <a:srcRect l="20340" t="28665" r="20727" b="12096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102"/>
          <p:cNvPicPr/>
          <p:nvPr/>
        </p:nvPicPr>
        <p:blipFill>
          <a:blip r:embed="rId1"/>
          <a:stretch/>
        </p:blipFill>
        <p:spPr>
          <a:xfrm>
            <a:off x="468360" y="2852640"/>
            <a:ext cx="8353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image?id=954386684655&amp;t=3&amp;plc=API&amp;viewToken=7k9zRpYIk3ZVXvhQyDQgRQ&amp;tkn=*cJjxlTI6dEsAu_8A5NhfZL_XAfw"/>
          <p:cNvPicPr/>
          <p:nvPr/>
        </p:nvPicPr>
        <p:blipFill>
          <a:blip r:embed="rId1"/>
          <a:stretch/>
        </p:blipFill>
        <p:spPr>
          <a:xfrm>
            <a:off x="1116000" y="981000"/>
            <a:ext cx="676908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 КАР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обаты – это линии соединяющие  точки с одинаковой глуби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niestandartnyie-uroki-v-1-klassie_2"/>
          <p:cNvPicPr/>
          <p:nvPr/>
        </p:nvPicPr>
        <p:blipFill>
          <a:blip r:embed="rId1"/>
          <a:stretch/>
        </p:blipFill>
        <p:spPr>
          <a:xfrm>
            <a:off x="324000" y="2565360"/>
            <a:ext cx="256212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1ff6bb-aa29-5f19-9121-02ed6aa454b9"/>
          <p:cNvPicPr/>
          <p:nvPr/>
        </p:nvPicPr>
        <p:blipFill>
          <a:blip r:embed="rId2"/>
          <a:stretch/>
        </p:blipFill>
        <p:spPr>
          <a:xfrm>
            <a:off x="2556000" y="404640"/>
            <a:ext cx="6337080" cy="36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s://media.istockphoto.com/vectors/locksmith-key-vector-id451575115?k=20&amp;m=451575115&amp;s=612x612&amp;w=0&amp;h=E148CSj7JqQUge_FswrIDYfIlWPJNJ5A_IPfXN1twNA="/>
          <p:cNvPicPr/>
          <p:nvPr/>
        </p:nvPicPr>
        <p:blipFill>
          <a:blip r:embed="rId3"/>
          <a:stretch/>
        </p:blipFill>
        <p:spPr>
          <a:xfrm>
            <a:off x="5072040" y="4643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5T06:27:35Z</dcterms:created>
  <dc:creator>Таня</dc:creator>
  <dc:description/>
  <dc:language>en-US</dc:language>
  <cp:lastModifiedBy>User</cp:lastModifiedBy>
  <dcterms:modified xsi:type="dcterms:W3CDTF">2023-03-06T12:25:08Z</dcterms:modified>
  <cp:revision>2</cp:revision>
  <dc:subject/>
  <dc:title>PowerPoint Presentation</dc:title>
</cp:coreProperties>
</file>